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FA1F-27A1-404D-AED8-867648CB1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FF44-F4E5-4B3A-B101-6D5192CC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CD73-F907-41DB-81F9-023FB3631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FE2A-A55A-488A-88A7-F939648E2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CB48-36FC-4701-B7FF-088714726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6F65-D042-4915-BFEE-1B86EA3E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3F28-F518-4E92-9605-0DDB2BB0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86CA-1CF3-4F44-A60F-CA854CBD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9038-0016-45C7-8DE1-D782B7D4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EC27-E98C-4D31-8C4B-AD40542B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214D-09D6-4AF2-9EB9-BE4BB1C6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5A7B-E831-4072-B3D8-DCE8236D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D37F-7590-487A-9332-9B966079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3215-0987-406D-891D-B2998317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BD43-B0B8-4132-9467-90673890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327F-6485-4627-AC52-6D5EBC60C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0236-C3F1-4D0C-8845-6D5568D7B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58E8-3C29-4ED4-9EE4-12B71065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20CA-9EF9-40E9-96D0-5E8AF2C1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6044-AA16-435E-BBBF-2298025E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6F47-B8D3-4C31-BA44-A828B49F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387F-EA12-4FA8-81FF-AED66D98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6844-04D9-4A85-A8DB-6726437E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6350-469A-4B7B-94FD-1C4D977C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CA87-36A8-4BE5-9604-214A0BF532F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41F4-1F33-4258-9816-6252709725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at do I write in the Margins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uali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on-linguistic represent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i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describe what author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rif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define key terms, paraphrase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how does it relate to me or worl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o ideas, arguments, claims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what is author saying?, what do I understand, what is purpose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t the Te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what author is saying/do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22:35:36Z</dcterms:created>
  <dc:creator>Nvasquez</dc:creator>
  <dc:description/>
  <dc:language>en-US</dc:language>
  <cp:lastModifiedBy>Nvasquez</cp:lastModifiedBy>
  <dcterms:modified xsi:type="dcterms:W3CDTF">2009-11-13T22:40:31Z</dcterms:modified>
  <cp:revision>1</cp:revision>
  <dc:subject/>
  <dc:title>What do I write in the Margins?</dc:title>
</cp:coreProperties>
</file>